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A5B-F5ED-4993-B37E-BB41C378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930-D4D1-4F95-8711-F678EB08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373-1E6C-4396-A95D-E5F9D2D8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6F1-2F95-4094-B258-8E3FF5C9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7F0-C4E4-4413-9B81-BCC782F5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05E-E6E3-4D29-AB6C-E9728FBF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CAF-82F1-415D-A0D9-F258FBBA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192-6C46-4407-9612-6BA0A866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D69-A927-4E35-B5EA-BAC0B95C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80D-3FFA-4581-9624-9CD9E950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6E6-F233-4507-A103-D2469BAB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197-5470-4DF7-856A-A6364489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0C87-0DEC-411F-A1D7-EB50F1001A2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lephant"/>
                <a:ea typeface="Osaka"/>
              </a:rPr>
              <a:t>Los instrumentos músicales andinos</a:t>
            </a:r>
            <a:endParaRPr b="0" lang="en-US" sz="6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2432160" cy="207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191120" y="4191120"/>
            <a:ext cx="1252440" cy="193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14400" y="228600"/>
            <a:ext cx="267804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1444680" cy="267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334120" y="228600"/>
            <a:ext cx="28335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7637400" cy="68644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81120" y="1447560"/>
            <a:ext cx="3962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El siku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62720" y="0"/>
            <a:ext cx="3581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¿Puedes ver el siku? ¿El charango? ¿Y la guitarra?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¿Cuáles instrumentos músicales puedes ver?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 antara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76120" y="-717480"/>
            <a:ext cx="9488520" cy="811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533412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La antara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s chajcha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28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Elephant"/>
              </a:rPr>
              <a:t>Las chajchas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El charango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62720" y="0"/>
            <a:ext cx="3581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Elephant"/>
              </a:rPr>
              <a:t>El señor toca el charango</a:t>
            </a:r>
            <a:r>
              <a:rPr b="0" lang="en-US" sz="54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cd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El hualaycho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9279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s ocarina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487692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Elephant"/>
              </a:rPr>
              <a:t>Las ocarinas</a:t>
            </a:r>
            <a:endParaRPr b="0" lang="en-US" sz="6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La</a:t>
            </a:r>
            <a:r>
              <a:rPr b="0" lang="en-US" sz="7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quena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332000"/>
            <a:ext cx="914400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lephant"/>
              </a:rPr>
              <a:t>La tinya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20" y="1295280"/>
            <a:ext cx="909468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3:15:47Z</dcterms:created>
  <dc:creator>Weston Schools</dc:creator>
  <dc:description/>
  <dc:language>en-US</dc:language>
  <cp:lastModifiedBy>Karen Murano</cp:lastModifiedBy>
  <dcterms:modified xsi:type="dcterms:W3CDTF">2009-03-25T21:42:23Z</dcterms:modified>
  <cp:revision>8</cp:revision>
  <dc:subject/>
  <dc:title>Los instrumentos musicales andinos</dc:title>
</cp:coreProperties>
</file>